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FFE-AD07-4669-929F-C1050AFE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770-0BB8-4837-90A7-1E52FD6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681-6B4E-41C2-A593-309DF026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DB5-701B-4DE0-9223-A2CBEE94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07B-F058-4C23-A657-88FC4371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B23-4CD3-4E7C-BCBF-213CD90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C62-E8D8-4A58-8A6A-B5D3DB25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5F0-1DA3-4F12-BAB7-D727726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E88-D780-4FA1-9876-4F8C22B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8BB-0CFF-4A37-8E3D-6AE2318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735-DA57-4892-847C-D487AC03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AD0-5DFD-4F0B-A911-1A3CB82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590A-55C9-49F3-B139-1F1C9FF8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1040" y="31608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rification of COAMPS TC structure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9680" y="1001880"/>
            <a:ext cx="7999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Go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velop framework for assessing the quality of COAMPS TC structure forecas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omplement the traditional assessment of forecast intensity and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urpos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itially, to qualitatively diagnose model biases/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Method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raphical comparison of 2D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5520" y="2722680"/>
            <a:ext cx="57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COAMPS surface wind field vs. surface wind field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27720" y="3087720"/>
            <a:ext cx="407880" cy="2318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7480" y="3381480"/>
            <a:ext cx="534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HRD H*Wind surface wind analysis (aircraft, surface, satell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2160" y="3679920"/>
            <a:ext cx="43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CIRA multiplatform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51640" y="4184640"/>
            <a:ext cx="71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COAMPS reflectivity field vs. 85GHz brightness temperature observatio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verification of the spatial distribution of deep 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1800" y="6551640"/>
            <a:ext cx="594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Jon Moskaitis  -  Naval Research Laboratory  -  Modeling Group Meeting  -  11/19/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1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D988-A2F4-495D-BE8C-D3CABD761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59160" cy="465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60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30406" t="30359" r="4058" b="7275"/>
          <a:stretch/>
        </p:blipFill>
        <p:spPr>
          <a:xfrm>
            <a:off x="523800" y="1258920"/>
            <a:ext cx="3694320" cy="4043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3480" y="27590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82800" y="2746440"/>
            <a:ext cx="847800" cy="92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FEB1-CF02-4D9A-93B2-74F919C9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68600" cy="4647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385" t="13301" r="0" b="26209"/>
          <a:stretch/>
        </p:blipFill>
        <p:spPr>
          <a:xfrm>
            <a:off x="542880" y="1189080"/>
            <a:ext cx="3692520" cy="4010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7720" y="5248440"/>
            <a:ext cx="29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D H*Wind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:3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A57B-246F-4A50-A905-F5CA401D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60 h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14600" cy="4654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9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20546" t="18949" r="18756" b="18949"/>
          <a:stretch/>
        </p:blipFill>
        <p:spPr>
          <a:xfrm>
            <a:off x="592200" y="1255680"/>
            <a:ext cx="3606840" cy="4116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15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331-6A79-4C98-AB0E-E6128C80E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60 h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60800" y="2984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720" y="1065240"/>
            <a:ext cx="69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1) Systematize graphical comparisons of forecast vs. obs/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26880" y="1649520"/>
            <a:ext cx="62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Download surface wind field analysis data and re-plot in the 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as COAMPS forec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640" y="2286000"/>
            <a:ext cx="68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Use COAMPS forecast fields to produce 85GHz brightness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, for comparison with satellite observ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1480" y="2911320"/>
            <a:ext cx="55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Put side-by-side comparisons on COAMPS-TC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8040" y="34909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2) Develop quantitative TC structure verific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53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03F-6753-44D5-AEC7-F9417C00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4413" r="0" b="0"/>
          <a:stretch/>
        </p:blipFill>
        <p:spPr>
          <a:xfrm>
            <a:off x="198360" y="1197000"/>
            <a:ext cx="4179960" cy="387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94" r="0" b="0"/>
          <a:stretch/>
        </p:blipFill>
        <p:spPr>
          <a:xfrm>
            <a:off x="4459320" y="1189080"/>
            <a:ext cx="4581360" cy="409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97280" y="903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10160" y="871560"/>
            <a:ext cx="938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9720" y="53848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AMPS forecast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s. best t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7560" y="6021360"/>
            <a:ext cx="74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TC forecast graphics available at http://www.nrlmry.navy.mil/coamps-web/web/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72A2-EE52-4EC0-B565-138EA138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68520" cy="465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11715" r="0" b="8606"/>
          <a:stretch/>
        </p:blipFill>
        <p:spPr>
          <a:xfrm>
            <a:off x="328680" y="1336680"/>
            <a:ext cx="4022640" cy="423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66640" y="1318680"/>
            <a:ext cx="377352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720" y="56181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478-4742-431E-9171-B3FA2262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68520" cy="465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11715" r="0" b="8606"/>
          <a:stretch/>
        </p:blipFill>
        <p:spPr>
          <a:xfrm>
            <a:off x="328680" y="1336680"/>
            <a:ext cx="4022640" cy="423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566640" y="1318680"/>
            <a:ext cx="3773520" cy="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45720" y="56181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92880" y="3059280"/>
            <a:ext cx="50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5000" y="2954160"/>
            <a:ext cx="50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4E47-F2C4-4174-9E09-B7422FAA0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05160" cy="465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19823" t="17178" r="16478" b="19719"/>
          <a:stretch/>
        </p:blipFill>
        <p:spPr>
          <a:xfrm>
            <a:off x="652320" y="1270080"/>
            <a:ext cx="3502080" cy="409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1232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6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68F-DEB5-4B75-98B9-662D331C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05160" cy="465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12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7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9823" t="17178" r="16478" b="19719"/>
          <a:stretch/>
        </p:blipFill>
        <p:spPr>
          <a:xfrm>
            <a:off x="652320" y="1270080"/>
            <a:ext cx="3502080" cy="4091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1232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6/23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280" y="3017880"/>
            <a:ext cx="631800" cy="68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9080" y="3011400"/>
            <a:ext cx="631800" cy="68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4A2-9DBA-42E4-876B-D431CB7A9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12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36 h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78240" cy="465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36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9210" r="0" b="8770"/>
          <a:stretch/>
        </p:blipFill>
        <p:spPr>
          <a:xfrm>
            <a:off x="347760" y="1230480"/>
            <a:ext cx="4022640" cy="4438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590400" y="1224000"/>
            <a:ext cx="37735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69480" y="57135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5640" y="288432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73320" y="2862360"/>
            <a:ext cx="614160" cy="75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4E5-B0F1-40E5-BC56-E1B00088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222440" cy="465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58600" y="5599080"/>
            <a:ext cx="275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reflectivity: Tau = 36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7565" t="17693" r="18675" b="19181"/>
          <a:stretch/>
        </p:blipFill>
        <p:spPr>
          <a:xfrm>
            <a:off x="687240" y="1246320"/>
            <a:ext cx="3497400" cy="4092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28240" y="5425920"/>
            <a:ext cx="25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GHz microwave pass (N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288432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2903400"/>
            <a:ext cx="614520" cy="75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0FF-2A6C-473C-807B-FA341B7C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   60 h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0560" y="912960"/>
            <a:ext cx="4324320" cy="46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58960" y="5599080"/>
            <a:ext cx="296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MPS surface wind: Tau = 60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9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10239" r="0" b="8770"/>
          <a:stretch/>
        </p:blipFill>
        <p:spPr>
          <a:xfrm>
            <a:off x="320760" y="1235160"/>
            <a:ext cx="4022640" cy="43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574560" y="1224000"/>
            <a:ext cx="37735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69480" y="5713560"/>
            <a:ext cx="30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A satellite surface wi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/18/00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0760" y="2491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mple: COAMPS forecast for Rick, DTG = 10/16/12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3480" y="27590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39760" y="2744640"/>
            <a:ext cx="8478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07160" y="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EA2D-86AD-43C1-8601-D1D91F48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5320" y="6291360"/>
            <a:ext cx="39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u =      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12 h            36 h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h</a:t>
            </a: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         79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5960" y="645012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644364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4760" y="6445080"/>
            <a:ext cx="5238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38760" y="6446880"/>
            <a:ext cx="365040" cy="14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3:00:55Z</dcterms:created>
  <dc:creator>Dr. Jon Moskaitis</dc:creator>
  <dc:description/>
  <dc:language>en-US</dc:language>
  <cp:lastModifiedBy>gopal</cp:lastModifiedBy>
  <dcterms:modified xsi:type="dcterms:W3CDTF">2009-11-18T22:54:27Z</dcterms:modified>
  <cp:revision>9</cp:revision>
  <dc:subject/>
  <dc:title>Slide 1</dc:title>
</cp:coreProperties>
</file>